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F46-E632-4DD2-BA9C-5B75902A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6DC-800B-4C80-AEBF-2A721B34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7F4-535C-43D6-B40A-C3C5A58A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D0B-DEFA-44FD-B1FF-D97241DE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D49-AE56-490B-912C-A5073E91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1AC-6A0A-498A-BBC8-2204A8B4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148-B8D5-4DCB-9BB8-6BD9BB8C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C81-937E-43A7-B01E-3660E1C2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D44-961C-4E01-981F-CE2249F4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690-68A2-4B21-9E5B-F536046E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3EF-5CA5-435C-9D44-1B713CEC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EB7D-1BA1-4881-B01C-F7E99AEA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FA9A-93F2-4DCE-B64E-F1D1D5473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 Got My Pu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chilly October night and I was playing in the leaves. Under a pile of leaves, I found two newborn pupp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81120" y="3276720"/>
            <a:ext cx="4181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ter help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tree I found the mother dog! She had a license that said, ‘116 Huntsville, Alabama 5678910. So I called her and I said ‘Your dog h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62520" y="4038480"/>
            <a:ext cx="208116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for a c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uppies.’ She said, ‘No wonder Rose was acting cranky lately. ’I said, ‘Your dog was under a tree and the puppies were under a pile of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3886200"/>
            <a:ext cx="335304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62720" y="3581280"/>
            <a:ext cx="2813040" cy="266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ss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I came to her house. As  a reward, she gave me a puppy and I named her Kisses.  THE END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23893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07:12Z</dcterms:created>
  <dc:creator>student</dc:creator>
  <dc:description/>
  <dc:language>en-US</dc:language>
  <cp:lastModifiedBy>student</cp:lastModifiedBy>
  <dcterms:modified xsi:type="dcterms:W3CDTF">2010-10-28T18:01:34Z</dcterms:modified>
  <cp:revision>5</cp:revision>
  <dc:subject/>
  <dc:title>Bella</dc:title>
</cp:coreProperties>
</file>